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2C4-3FAC-4573-B818-E8654B7F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C371-80C9-4698-853A-D9CF36A2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C0CF-505F-4745-8B01-F747D08F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8CB-4ECA-4F93-889F-E06048F7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609-57C8-402B-A90D-C05D7EB4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0FA5-26CE-48FC-A7AC-0FFF8628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263-D3C3-4941-8AA5-28F25623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B6C7-8566-4E70-8B48-CF625263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8C4-5A56-4EB6-842A-E5FF57CF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76E-06F3-4794-A032-7BE43E6E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B69A-E15C-4D1B-BE44-6A51B28C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5AC-F0A0-485B-B6F4-A6FCB0E6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DE58-38F7-446B-B810-7C6EDE2B7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38080"/>
            <a:ext cx="87631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LA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ITIME BUOYAGE SYSTEM &amp; OTHER AIDS TO 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v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LA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ALA 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457200"/>
            <a:ext cx="838224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 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n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Danger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 Water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anger Mar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*NEW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Danger and Wreck Marking Bu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Mar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*NEW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ght 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tor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ing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Floating 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of Non-Lateral Signific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1066680"/>
            <a:ext cx="762120" cy="2895840"/>
          </a:xfrm>
          <a:custGeom>
            <a:avLst/>
            <a:gdLst>
              <a:gd name="textAreaLeft" fmla="*/ 0 w 762120"/>
              <a:gd name="textAreaRight" fmla="*/ 275040 w 76212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2178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42354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191120"/>
            <a:ext cx="853452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9:34:05Z</dcterms:created>
  <dc:creator>PWN</dc:creator>
  <dc:description/>
  <dc:language>en-US</dc:language>
  <cp:lastModifiedBy>PWN</cp:lastModifiedBy>
  <dcterms:modified xsi:type="dcterms:W3CDTF">2008-10-16T11:59:12Z</dcterms:modified>
  <cp:revision>2</cp:revision>
  <dc:subject/>
  <dc:title>Slide 1</dc:title>
</cp:coreProperties>
</file>